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D28B-FCCD-421E-94E8-78A4557B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8A7-2111-4724-B9B2-9DBEB472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AC0-2B6E-4EFF-AE00-4110BB6E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0E0-332E-424A-8002-7F466776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D06D-AC50-46DC-B46E-0A0DA1C2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E2D2-0507-4BAB-A800-B1DD3D5A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BAF0-9B5F-41E2-9A0B-D32FFF60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AEB6-0229-4E4F-AA4C-4910AF86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C5B8-3AEB-4AAA-BAD1-177662F4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D26F-A79F-4D9D-96C6-81BF58B9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5CDE-8AD6-4732-A165-335E5355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9DE-3063-4EA0-B530-E29067F7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0C92-CD82-4C2F-8853-E4851ED2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F83C-AF9C-4E22-8922-D768AA99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0158-2FBB-4D31-9C94-B85A54AD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DAE6-7A07-490F-A656-9A7C33C8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446A-58BF-4AEF-881E-D22617AA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96B-259C-4BEB-9F66-179BA8CD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588-500E-4EBE-A355-0BA2854B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DA04-A027-4902-B85E-C07052A7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324F-2FC4-4CD3-885B-7036F76B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EAAC-E1C7-4CE7-8528-23D6E65B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21A-A1CD-4D83-8332-02A29994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F6C-453B-4A8A-A388-5A9557D2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22BE-0152-44F2-8EA7-D15A33D9A2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13EC-46FC-44E4-B961-710BBCF61BEE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Группа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63640" y="22050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сследователи дискриминан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042920" y="4292640"/>
            <a:ext cx="6050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Стоит ли идти  исхоженной и надежной тропкой, которая всегда приведет к цели, но потребует много времени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Наш ответ: 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7300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аша группа получила универсальную формулу для решения любого квадратного уравне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3933720"/>
            <a:ext cx="738648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ы ознакомим вас с методикой получения этой «супер - формулы» и её применение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установочном консилиуме для нахождения корня мы пытались выделить полный квадрат и разлагать на множители левую часть уравнения. Но это громоздк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 поэтому мы сделали это один раз для уравнения с буквенным коэффициентами и получили формулу для решения любого квадратного уравн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ывод формул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Picture 6" descr="C:\Documents and Settings\26515\Рабочий стол\1.JPG"/>
          <p:cNvPicPr/>
          <p:nvPr/>
        </p:nvPicPr>
        <p:blipFill>
          <a:blip r:embed="rId1"/>
          <a:stretch/>
        </p:blipFill>
        <p:spPr>
          <a:xfrm>
            <a:off x="357120" y="1857240"/>
            <a:ext cx="70232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ывод формул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Picture 5" descr="C:\Documents and Settings\26515\Рабочий стол\2.JPG"/>
          <p:cNvPicPr/>
          <p:nvPr/>
        </p:nvPicPr>
        <p:blipFill>
          <a:blip r:embed="rId1"/>
          <a:stretch/>
        </p:blipFill>
        <p:spPr>
          <a:xfrm>
            <a:off x="142920" y="2000160"/>
            <a:ext cx="75056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434880" y="4428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ывод формулы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63160" y="2641680"/>
            <a:ext cx="3616200" cy="2411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211280" y="1598760"/>
            <a:ext cx="3257640" cy="2171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209840" y="3922200"/>
            <a:ext cx="3260520" cy="2173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C:\Documents and Settings\26515\Рабочий стол\3.JPG"/>
          <p:cNvPicPr/>
          <p:nvPr/>
        </p:nvPicPr>
        <p:blipFill>
          <a:blip r:embed="rId4"/>
          <a:stretch/>
        </p:blipFill>
        <p:spPr>
          <a:xfrm>
            <a:off x="642960" y="1571760"/>
            <a:ext cx="6248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5"/>
          <p:cNvSpPr/>
          <p:nvPr/>
        </p:nvSpPr>
        <p:spPr>
          <a:xfrm>
            <a:off x="2195640" y="620640"/>
            <a:ext cx="4105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ах</a:t>
            </a:r>
            <a:r>
              <a:rPr b="0" lang="ru-RU" sz="32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+вх+с=0, а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  <a:ea typeface="Tahoma"/>
              </a:rPr>
              <a:t>≠0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ahoma"/>
              </a:rPr>
              <a:t>D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  <a:ea typeface="Tahoma"/>
              </a:rPr>
              <a:t>=в</a:t>
            </a:r>
            <a:r>
              <a:rPr b="0" lang="ru-RU" sz="3200" spc="-1" strike="noStrike" baseline="30000">
                <a:solidFill>
                  <a:srgbClr val="ffff66"/>
                </a:solidFill>
                <a:latin typeface="Times New Roman"/>
                <a:ea typeface="Tahoma"/>
              </a:rPr>
              <a:t>2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  <a:ea typeface="Tahoma"/>
              </a:rPr>
              <a:t>-4а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179280" y="3429000"/>
            <a:ext cx="1908360" cy="1810440"/>
          </a:xfrm>
          <a:prstGeom prst="rect">
            <a:avLst/>
          </a:prstGeom>
          <a:noFill/>
          <a:ln w="3816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ahoma"/>
              </a:rPr>
              <a:t>&lt;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  <a:ea typeface="Tahoma"/>
              </a:rPr>
              <a:t>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  <a:ea typeface="Tahoma"/>
              </a:rPr>
              <a:t>решений не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2340000" y="3429000"/>
            <a:ext cx="2448000" cy="2525760"/>
          </a:xfrm>
          <a:prstGeom prst="rect">
            <a:avLst/>
          </a:prstGeom>
          <a:noFill/>
          <a:ln w="3816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=0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-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ffff66"/>
                </a:solidFill>
                <a:latin typeface="Times New Roman"/>
              </a:rPr>
              <a:t>1,2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= -----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2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5003640" y="2276640"/>
            <a:ext cx="2808360" cy="4513320"/>
          </a:xfrm>
          <a:prstGeom prst="rect">
            <a:avLst/>
          </a:prstGeom>
          <a:noFill/>
          <a:ln w="3816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ahoma"/>
              </a:rPr>
              <a:t>&gt;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0, т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-в+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  <a:ea typeface="Tahoma"/>
              </a:rPr>
              <a:t>√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=-------------;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2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-в-√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=-------------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2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3995640" y="2276640"/>
            <a:ext cx="0" cy="8632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4427640" y="1916280"/>
            <a:ext cx="1512720" cy="360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Line 18"/>
          <p:cNvSpPr/>
          <p:nvPr/>
        </p:nvSpPr>
        <p:spPr>
          <a:xfrm flipH="1">
            <a:off x="1115640" y="1989000"/>
            <a:ext cx="2376360" cy="86364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395280" y="333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 получили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5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2:07:14Z</dcterms:created>
  <dc:creator>MARI</dc:creator>
  <dc:description/>
  <dc:language>en-US</dc:language>
  <cp:lastModifiedBy>26515</cp:lastModifiedBy>
  <dcterms:modified xsi:type="dcterms:W3CDTF">2010-05-24T11:08:32Z</dcterms:modified>
  <cp:revision>9</cp:revision>
  <dc:subject/>
  <dc:title>Группа D</dc:title>
</cp:coreProperties>
</file>